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8.png" ContentType="image/png"/>
  <Override PartName="/ppt/media/ups.wav" ContentType="audio/x-wav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drama.wav" ContentType="audio/x-wav"/>
  <Override PartName="/ppt/media/image2.png" ContentType="image/png"/>
  <Override PartName="/ppt/media/image14.png" ContentType="image/png"/>
  <Override PartName="/ppt/media/image5.png" ContentType="image/png"/>
  <Override PartName="/ppt/media/apert2.wav" ContentType="audio/x-wav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3A7F5-6B60-49DF-9720-4E8B9483268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E7893-DDF0-4EB8-BE3B-67C15DF1069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DBA0D-7360-4341-88BE-E1B2607EBC9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9194A-BB72-4FEA-8A4C-8AD41645139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642C-5C81-4C35-8281-0455A8ABBC8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24A05-2E5E-406F-B247-5B7C5036B15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E91-697D-4389-A29E-D31D6C6B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4B3-01A3-4FD9-914E-DBCDBD9B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81CFB-EC78-4498-8F7D-2F392106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9ED6A-9D29-4BA3-B901-07F9E029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9FFC7-8336-4473-842F-3D067F0E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7159A-C49B-4745-BF8F-210A026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53F18-3CD6-4F35-94C7-3D8E9B9F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0BD56-6D0F-46B0-AB6F-B5EE4CF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175E6-3D47-4962-B843-D2D0C74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0EE07-7822-4196-9792-8320470C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A2D25-F34A-4468-BBE8-7D80803F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1294F-8DC3-402B-8C1D-620D6BDF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75A-B773-412A-9B80-831EC069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3B537-04DA-4F35-B599-6A19972B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534DD-6535-4A64-AF6E-6EACCEF1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6C184-407A-47EF-8E86-C2CAFB8C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EE73A-46EB-4C1F-9A7B-4C7C33FD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3A104-4A88-428F-8FFE-CBE9D93F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BE2D5-6CFE-48E1-BAEC-B84B848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32C6F-255E-4525-B07E-CE71B6A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9DECD-5AE7-4315-B36F-89A5118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28737-4515-4DF3-889E-07656438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4F8A9-4A25-4180-97B3-62A9094A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9D7-EFC0-41B3-A935-E422D7C7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F4B7F-B0E0-4403-9680-E6E3301D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2CDB0-90A5-4040-AC9C-FA564159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85740-949A-42B7-B2B2-D75A98B6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0370C-0255-4771-AE34-39C2E8AA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0A092-EC40-4650-B8B0-886F6BCA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BE2AC-F17B-4F1E-9254-4C4749BA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68EC9-13D5-4422-907D-DAFDFA02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1B5D6-B65B-443F-A516-36109BE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3F790-C902-464D-923F-45F8DA3A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9D689-4A53-469F-8435-71B7B5B0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ED9E-3165-4E7D-BF73-3C9520DD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961B-4A7B-4435-A367-6FC49D72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35B7B-2E00-416B-A979-DF2AE8EB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6093F-073D-4021-8619-F37702E4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6E25E-CD2A-4377-A102-CF0C3130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2DA8B-46E3-49CA-8618-3228A206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1DDBE-398B-4858-BBE8-FD2BB7D3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14134-05BD-4631-BB83-3180E5F8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810E6-2303-434F-B9D3-3224D293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95240-A7D6-4E80-ABF0-50B80250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EA770-D514-4DEF-816F-081F092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1809-C10A-4A34-A80A-A6FF756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65BB7-FCE4-4E0F-9F65-E1EB4B0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FABB4-B37D-4326-B639-71A7859B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CBD36-A5F6-4D66-A458-4733517D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DD988-ED89-4AEF-9467-065530A4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F9F80-364B-48AE-AB00-263C78DD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132BC-08EB-4D54-B482-CEF51518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812E8-942A-4A5E-BC23-912B7DA8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D090E-4184-4414-9A2B-DC0E5C41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B72E9-6BE3-488F-9DE3-DC4309D4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CF298-7DF0-4CF1-8587-68FB24A9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FD7F-C860-4827-81C1-E6E0426A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43461-BD8F-4722-88FC-FDDD55BC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D17F1-8493-4B5D-881D-5F9FAA7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36764-0FCF-4B7C-8975-8CEDEF6B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FA2DD-AF81-41CB-9D72-0173522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12395-8164-4F2E-800A-B04247CD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65D90-C08F-4905-A2B7-4101BAD7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9FF6D-9A51-4B74-9F45-CC672ABD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0117-3F5F-4F35-ABE7-AED14CF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70AA-FBA7-45C2-AADE-B3E46457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D4C4-4012-42D1-8E10-C2EF74E8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41A9-036A-4B07-91B6-9042660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277-12B7-40A8-BBF9-0817C305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21C9-B399-44A4-9AF6-D51B30FB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24CB-5C26-4A99-A9EA-5CAFC83F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3375-AE9E-4E9D-B3A4-B2B6032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86D4-B8A8-4B6F-ABA8-F015ED66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3990-4653-45E7-B3DC-784620DA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1E23-53C2-40BB-A01C-767A1FDC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5E3CD-69F0-45D9-954D-69A7F238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A1A0-CDE0-4836-9FF9-F8E5C60B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2ED0-BDE0-40A0-917D-E4FF27D6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D588-A128-4269-9B89-9B7C0505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0CD-5593-4044-B2E2-1B3E5F08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DB0A-7097-4593-8198-41A457A6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3500-89EE-4DE6-A529-6655FBBB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3EEF-D5E5-4054-B242-E8369D5A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D4C7-11D3-4C14-885B-1CB309C9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1F8D-334D-4628-AC6F-C2869E94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A9839-45C7-499C-961B-D827F03C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561F-D48C-4289-8F3C-6ABAEFDE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95F98-EA41-4DFF-A0C5-5E99E5A2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4C64F-333A-47E4-B547-9ED5D13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ABB6-A93A-4F10-9AEA-C8CA27D1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1549-5186-40D8-BBBD-3B9D8F2E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817A-A271-463E-A8D9-8A78A79F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FF4B7-77A1-4E69-B492-5937FA0A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EE135-0B6A-4BA1-842A-CA4856A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E33A-CFE4-46C0-844D-E4C4A43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2686-CD89-40E2-9DE8-C362758B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B9DB-A420-43D9-9E7A-BF094D3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5559-F8D2-4F7E-A3D1-7B2C6FFA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0F920-413E-4D2B-B53E-1BBE4478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B4852-FEDC-4DA7-9E14-EFC4684A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DBDE9-0962-4A07-960A-91557051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1AC-4894-44B1-8EE8-05ABE5F0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DBA2-923E-42BD-8E8B-1B4D76FD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82428-BC33-49DD-AB24-ED99ED0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94C1-CC23-4B21-9723-61C1F81D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7D7A7-33FA-4211-921C-2B168BB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6796F-BD18-4796-BBFB-9E7686F6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86AA-2C57-42F4-81CF-B9C9E111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6F53F-5490-4506-911F-C0FEE69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CF21C-B461-405C-8683-C730BCE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55DB8-D944-4F7D-B4BB-63DF3A69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DE400-630A-4965-B2F8-8116B2C0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DFF-92EC-4826-A6D1-DB11BE78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4FAE-9C6A-417C-BF8B-D85F968E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AFAE-7E77-4922-918B-F7FF66AF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4445-D01F-4AC0-9B50-3AA69334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EEF8-F35D-424F-9DC7-BF893499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D5F79-36E6-4A04-A2DE-5411D946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969A-3599-4C19-B538-FE2A5F97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A3146-942A-46BE-9151-CBEBC77E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E815E-16D5-44BE-808F-7EBCC76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5F5A-E878-47DA-9E8E-D83A32CD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CAFA4-F2BC-4F29-AD67-F3176E0F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DDE-4226-442A-B73D-F22CECC8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29345-E568-46F0-848F-C49886F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385C2-6AC0-4227-A33A-FF40E1FD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EE644-6D57-4B3D-AE34-44E51BC0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64A3F-E46E-4F5E-A2DD-60D09331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C2E05-D58A-42E3-A51A-C1D1369E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F4AB0-94F1-4CAF-8C51-439EE7E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D9768-F7F2-445C-A6A7-91AFF0A1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8420-72E6-4D3B-9A66-1A982CE8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80AAB-5614-40EB-B7B6-D8235FF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CD28-40FB-4F25-B6CA-CE055A5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34A-4FDB-4015-A762-4252DA0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252E-79F7-4B9A-BDC4-64422B9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2B569-E4E0-4AC3-B6AA-311B4CD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9A4A-CF65-4D71-872F-561B0427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6D484-C52B-4101-8975-202C9BD3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49A2-7B6C-42F9-A8D2-A722719C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F45DC-E6D3-4508-9A03-161D57F7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5D5B0-6EA4-4B84-B691-3BA0D8E3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A2F6E-656B-43AE-A0B0-834BA28B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03D2-B198-4DFB-A836-D62E9A49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6DE90-3E0F-4E37-89A0-7756067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848-807B-47BB-AA10-128DB0B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20720" y="539640"/>
            <a:ext cx="863928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5443-FC9A-45BC-951F-B740AA89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D3D82-652C-490D-B0D9-D0F43EB8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6F163-7167-4435-B545-C2D7D5FA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DF13D-AA4F-4B66-91FB-908A92FB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360" y="3953160"/>
            <a:ext cx="84582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55B8-34CF-4A5A-BA23-1009B8C7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36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54400" y="3953160"/>
            <a:ext cx="4127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04208-1E6F-4694-AF43-8637A454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02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40400" y="197928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36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02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40400" y="3953160"/>
            <a:ext cx="2723400" cy="180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E82AA-E10B-46C4-A53B-38FF9FF5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4587C-4DD0-4C38-8224-3DB7E592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261C1-0970-4817-8AFE-D6E59DD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53B33-496C-4F19-88E7-25AF7A2D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9A6AC-80D9-46D9-BD45-42B66B5A87D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EBBFE-0607-4C00-BF7F-BFE75CDD2BE5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8534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C745C-B4E7-45B4-BCB8-AB7FAA21817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02920" y="2165400"/>
            <a:ext cx="90694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A9A78-C1F7-4570-9573-E653F41A8D6C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BA6ED-4D02-4DA6-871E-37A9D06536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9B386-1F11-4DE1-8AF7-C8DC4D55148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6437C-5321-454A-A6BC-79CEE5B0C220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5199A-3E04-4E5B-A672-50FD74CC99AE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2226F-B76D-413E-9364-87CFE61D7C3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B512D-65D0-419A-A5E1-39A484F09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20360" y="717480"/>
            <a:ext cx="84582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79280" y="2340000"/>
            <a:ext cx="791820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FAB5B-1B54-4246-B1B7-CCDD068161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640" y="662040"/>
            <a:ext cx="867384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60360" y="2128680"/>
            <a:ext cx="831384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971280" y="674352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699000" y="6743520"/>
            <a:ext cx="319392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335720" y="6743520"/>
            <a:ext cx="2346480" cy="51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1B2A-2EEF-41DA-A9C6-1A12111A1FC8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93B2F-FEBC-4675-844D-1271FBEE3673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ups.wav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drama.wav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apert2.wav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After the End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Once upon a time everyone lived happily. One day without a reason a big explosion happen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ed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 and everyone became zombies. Only tw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o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persons survived. 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059080" y="1767960"/>
            <a:ext cx="43038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5040360" y="341964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"/>
          <p:cNvPicPr/>
          <p:nvPr/>
        </p:nvPicPr>
        <p:blipFill>
          <a:blip r:embed="rId2"/>
          <a:stretch/>
        </p:blipFill>
        <p:spPr>
          <a:xfrm>
            <a:off x="5040360" y="1752480"/>
            <a:ext cx="431964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up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ZOM</a:t>
            </a:r>
            <a:r>
              <a:rPr b="0" lang="en-GB" sz="44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So they decided to look for other survivors. But the only thing they found  was only zombies. At night they went in a hotel to sleep.  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59080" y="1767960"/>
            <a:ext cx="43038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48" name="Picture 4" descr=""/>
          <p:cNvPicPr/>
          <p:nvPr/>
        </p:nvPicPr>
        <p:blipFill>
          <a:blip r:embed="rId1"/>
          <a:stretch/>
        </p:blipFill>
        <p:spPr>
          <a:xfrm>
            <a:off x="5054760" y="1800360"/>
            <a:ext cx="4305240" cy="2160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5040360" y="3959280"/>
            <a:ext cx="43196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dram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l-GR" sz="4400" spc="-1" strike="noStrike">
                <a:solidFill>
                  <a:srgbClr val="800000"/>
                </a:solidFill>
                <a:latin typeface="Arial"/>
              </a:rPr>
              <a:t>The elder</a:t>
            </a: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el-GR" sz="4400" spc="-1" strike="noStrike" u="sng">
                <a:solidFill>
                  <a:srgbClr val="800000"/>
                </a:solidFill>
                <a:uFillTx/>
                <a:latin typeface="Arial"/>
              </a:rPr>
              <a:t>and the metro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3280" y="2165040"/>
            <a:ext cx="442584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The next morning they went to look at the met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ro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. There found nothing except zom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b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s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. Then they proceed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ed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and saw one old person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. 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He 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advised </a:t>
            </a:r>
            <a:r>
              <a:rPr b="0" lang="en-GB" sz="2800" spc="-1" strike="noStrike">
                <a:solidFill>
                  <a:srgbClr val="006b6b"/>
                </a:solidFill>
                <a:latin typeface="Arial"/>
              </a:rPr>
              <a:t>them </a:t>
            </a:r>
            <a:r>
              <a:rPr b="0" lang="el-GR" sz="2800" spc="-1" strike="noStrike">
                <a:solidFill>
                  <a:srgbClr val="006b6b"/>
                </a:solidFill>
                <a:latin typeface="Arial"/>
              </a:rPr>
              <a:t>to go to the forest to find the golden apple.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151600" y="2165400"/>
            <a:ext cx="442584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53" name="Picture 4" descr=""/>
          <p:cNvPicPr/>
          <p:nvPr/>
        </p:nvPicPr>
        <p:blipFill>
          <a:blip r:embed="rId1"/>
          <a:stretch/>
        </p:blipFill>
        <p:spPr>
          <a:xfrm>
            <a:off x="5157720" y="2160720"/>
            <a:ext cx="2401920" cy="19796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"/>
          <p:cNvPicPr/>
          <p:nvPr/>
        </p:nvPicPr>
        <p:blipFill>
          <a:blip r:embed="rId2"/>
          <a:stretch/>
        </p:blipFill>
        <p:spPr>
          <a:xfrm>
            <a:off x="7559640" y="3600360"/>
            <a:ext cx="1979640" cy="2818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6" descr=""/>
          <p:cNvPicPr/>
          <p:nvPr/>
        </p:nvPicPr>
        <p:blipFill>
          <a:blip r:embed="rId3"/>
          <a:stretch/>
        </p:blipFill>
        <p:spPr>
          <a:xfrm>
            <a:off x="5062680" y="4680000"/>
            <a:ext cx="249696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4" name="apert2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We got the ap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20360" y="1913040"/>
            <a:ext cx="42339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So began the trip in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 the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forest. There they saw a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n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old tree. They realized that there would be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 the apple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. They began digging downward and found the golden apple to the last root of the tree.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65280" y="1912680"/>
            <a:ext cx="42339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5219640" y="1913040"/>
            <a:ext cx="4140360" cy="18669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"/>
          <p:cNvPicPr/>
          <p:nvPr/>
        </p:nvPicPr>
        <p:blipFill>
          <a:blip r:embed="rId2"/>
          <a:stretch/>
        </p:blipFill>
        <p:spPr>
          <a:xfrm>
            <a:off x="5219640" y="3780000"/>
            <a:ext cx="431964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4400" spc="-1" strike="noStrike">
                <a:solidFill>
                  <a:srgbClr val="800000"/>
                </a:solidFill>
                <a:latin typeface="Arial"/>
              </a:rPr>
              <a:t>At last peopl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So, after having the apple and the filter, 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they poured them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over the zom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b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ie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s and they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 became people</a:t>
            </a:r>
            <a:r>
              <a:rPr b="0" lang="en-GB" sz="2400" spc="-1" strike="noStrike">
                <a:solidFill>
                  <a:srgbClr val="006b6b"/>
                </a:solidFill>
                <a:latin typeface="Arial"/>
              </a:rPr>
              <a:t> again</a:t>
            </a:r>
            <a:r>
              <a:rPr b="0" lang="el-GR" sz="2400" spc="-1" strike="noStrike">
                <a:solidFill>
                  <a:srgbClr val="006b6b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6b6b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l-GR" sz="5400" spc="-1" strike="noStrike" u="sng">
                <a:solidFill>
                  <a:srgbClr val="006b6b"/>
                </a:solidFill>
                <a:uFillTx/>
                <a:latin typeface="Arial"/>
              </a:rPr>
              <a:t>The end</a:t>
            </a:r>
            <a:endParaRPr b="0" lang="en-US" sz="54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54400" y="1979280"/>
            <a:ext cx="412740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l-GR" sz="2400" spc="-1" strike="noStrike">
              <a:solidFill>
                <a:srgbClr val="006b6b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1"/>
          <a:stretch/>
        </p:blipFill>
        <p:spPr>
          <a:xfrm>
            <a:off x="5072040" y="1979640"/>
            <a:ext cx="392760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0:00:31Z</dcterms:created>
  <dc:creator>Georgia Makrogiorgou</dc:creator>
  <dc:description/>
  <dc:language>en-US</dc:language>
  <cp:lastModifiedBy>Georgia Makrogiorgou</cp:lastModifiedBy>
  <dcterms:modified xsi:type="dcterms:W3CDTF">2016-02-17T18:36:10Z</dcterms:modified>
  <cp:revision>4</cp:revision>
  <dc:subject/>
  <dc:title>After the End</dc:title>
</cp:coreProperties>
</file>